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58.jpeg" ContentType="image/jpeg"/>
  <Override PartName="/ppt/media/image57.jpeg" ContentType="image/jpeg"/>
  <Override PartName="/ppt/media/image63.png" ContentType="image/png"/>
  <Override PartName="/ppt/media/image55.jpeg" ContentType="image/jpeg"/>
  <Override PartName="/ppt/media/image6.jpeg" ContentType="image/jpeg"/>
  <Override PartName="/ppt/media/image60.png" ContentType="image/png"/>
  <Override PartName="/ppt/media/image50.jpeg" ContentType="image/jpeg"/>
  <Override PartName="/ppt/media/image52.png" ContentType="image/pn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64.png" ContentType="image/png"/>
  <Override PartName="/ppt/media/image15.jpeg" ContentType="image/jpeg"/>
  <Override PartName="/ppt/media/image3.png" ContentType="image/png"/>
  <Override PartName="/ppt/media/image56.jpeg" ContentType="image/jpeg"/>
  <Override PartName="/ppt/media/image24.jpeg" ContentType="image/jpeg"/>
  <Override PartName="/ppt/media/image19.jpeg" ContentType="image/jpeg"/>
  <Override PartName="/ppt/media/image42.png" ContentType="image/png"/>
  <Override PartName="/ppt/media/image26.jpeg" ContentType="image/jpeg"/>
  <Override PartName="/ppt/media/image23.jpeg" ContentType="image/jpeg"/>
  <Override PartName="/ppt/media/image62.jpeg" ContentType="image/jpeg"/>
  <Override PartName="/ppt/media/image5.jpeg" ContentType="image/jpeg"/>
  <Override PartName="/ppt/media/image18.jpeg" ContentType="image/jpeg"/>
  <Override PartName="/ppt/media/image21.jpeg" ContentType="image/jpeg"/>
  <Override PartName="/ppt/media/image32.jpeg" ContentType="image/jpeg"/>
  <Override PartName="/ppt/media/image16.jpeg" ContentType="image/jpeg"/>
  <Override PartName="/ppt/media/image2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12.jpeg" ContentType="image/jpeg"/>
  <Override PartName="/ppt/media/image29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17.png" ContentType="image/png"/>
  <Override PartName="/ppt/media/image3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37.jpeg" ContentType="image/jpeg"/>
  <Override PartName="/ppt/media/image43.jpeg" ContentType="image/jpeg"/>
  <Override PartName="/ppt/media/image38.png" ContentType="image/pn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8ED3-9599-44B4-97F7-95369AFB6E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3D73-7F35-46D6-9DDB-74778F95C4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6597-9895-4F55-9934-0113302652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7CFF-5FEF-4058-B470-670D01A9AA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EB05-DA78-4C40-B85D-9A275F9F15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AA4F5-555F-43C6-8017-75E1F82ABA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E7DF-A92A-46EE-A329-9CEAF001A9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B9EA-5B88-4ACE-8D57-9F910A0F84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7217-CC83-4C76-98B2-D9E306EB5E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6D32-FF67-47A0-A367-176C30A896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4A29-404A-4620-9A68-21B3F10428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6D91-BB6D-4879-885F-24E4EDED51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11F6-FF1B-424B-A0C9-287C2E74F8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E5C6-D26B-4AA2-B37D-4B3A89E62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C8C3-19B7-4C16-B127-F60E2D33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2C0C78-C16E-4C73-8EC5-BF8BD0B0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160449-88D5-4617-A532-916E0D92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1FF694-02CB-44E6-9978-2E6F4263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B2B1C6-BB8A-43F0-B4D0-0F452EEF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DCED9-4455-45AC-A58D-D85C6BC1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8F7F3-DA55-4D47-9D79-B2A8C647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617FD-865A-409B-8A65-2BFAC566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F5527B-A101-4F83-9F59-B86560B4F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607AFC-F0B0-47BB-A8CA-042207575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5312-D9F9-4ADB-AE45-477DA0B74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86BB-B41D-4862-BFE4-5D9B463F7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25AD-2C06-4FA6-B9FA-3D9E9068F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C7D0-857A-4C41-AAAA-36AB04D5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6B98-C67A-4267-84BA-A6D2F7A8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06E0-F5CB-4344-9EAE-03C9AE18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FB9CF-A269-4EFF-8D1C-74F610F1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2EC6-52A8-452C-A529-40B02DC0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0A7E-B4BD-4488-9C80-AEF49F4B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5743-2020-43B2-825D-302D2F30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F165-A2AB-4AD2-9E87-6012E54C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EFAA-72FD-489C-BE7E-00879F65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4BF9-B1CC-4F64-A866-D3D8A090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145B-76D2-4606-A39F-8CEABD520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4CEB-DD9C-4504-84D2-C1BB051A3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BD799-7536-4B99-A4E2-27B6D9751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F517F-4D7C-40A7-85ED-D5F46C60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101B4-E80A-4F9A-B780-C17F9DDF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E6AB6-E88B-48A1-B6C2-44B3659C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F77B2-AF6D-46BF-BFB9-7B101BF4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684E-917C-4ED9-A482-C6A66354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07911-215B-40A1-9346-1B33BC4E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59297-A841-47F0-9071-931D159D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B2EE3-819B-483D-9AA2-6B2489F6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32390-7D87-4A7A-9F9B-97589CF8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52F6D-7650-4F7F-81BE-73EC6E11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5E19E-01A1-42BC-BA5F-BE1855842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2FA7D-DF8F-4C28-BA16-82E023838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801B9-1861-494E-A7D4-05A61E3C9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06846-5CFA-4BAC-8EB1-B2ECAE8A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8B788-A8CD-4093-A6E4-6DCC1348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EA2D-FD97-416A-9D1F-3D785D1C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83BCC-7A5C-4985-852C-7DF2EFBE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8CBDF-D017-4930-9866-C5A8B931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6D8ED-CA98-45C3-8B0B-7F347485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F4D7C-E7DA-4E48-8CD6-06EFB515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53FB3-87D9-469D-80A5-90DB708A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806D6-CB01-49B9-80B9-12216FCC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A16D0-F6ED-4EC2-990B-99EFCBE5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DFC4A-0311-475A-ABD9-ECA808D9C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E446B-CA0B-4FBA-BDFF-473885C38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1A18D-70B6-4FE7-88E1-23CB1754E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8A8B-BAEF-49F6-BB0F-857B1864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33A54-415C-43CE-9104-4FE4455A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B3FA1-801E-4982-80FA-74EBA176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CB007-C482-4AD0-93EB-230575AF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676E5-650F-42F1-8AB2-55998FA0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94245-F469-4023-A8F9-2602F65E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F31AF-1CBF-43A4-9C08-E3287BBE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73DDE-28EC-41A4-B2F7-331D0332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BADF8-C297-4D67-ACFE-77EEAD16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39541-042E-4D2E-B886-3404772C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4AE2C-9D05-4855-8DF0-F73C8BC15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BAE5-B11E-48F9-AA2A-1B7E7E9B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2C566-B10B-477E-9D4E-16E16A4F9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F1806-EDD3-4683-B340-09365BD0C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FD3D7-01B1-4FAF-90CA-A3299A6A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9A725-F277-4F9E-A5B9-21359D74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F45B0-A9B7-46E5-826F-AB8B1A94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3E3CC-37AE-41A4-A354-EF0D94CD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87D94-1886-444E-949B-BAE94844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3B454-0E68-4D9E-8D90-2C17EE0C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EB0B9-744C-4344-96F4-9631D412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238F1-2D06-45AB-9809-2C022BF1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6647-2640-4232-8F9E-796A1937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57C94-075E-41D1-A115-0AED0232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BE2D4-6D7C-4A5A-935C-383D84492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F4086-EF9C-420B-A644-6436CE57E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81199-A4CF-4D83-8E53-6E0CE0906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E4061-4E63-469F-990E-32ED3644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9305C-F109-4FFB-BA86-1CD3F07C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D38D0-77DC-4AE1-A88A-4F070458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937F1-5437-48E2-AE75-DDF03923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AE32A-3352-4D61-8E7D-DA790397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C9CCD-190B-4FA1-838C-1DB121FE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8081-4D22-4958-AF4B-382FEA02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79F75-5769-4728-84EF-C2110963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85856-017B-4A1D-A878-BBE636DD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C3CBF-1C53-4AD5-A4CC-74A34C77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A2B61-FB5A-4CA1-95A0-C5DAC7863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5D3D7-8477-41F5-9824-CFA0FB5F2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5F3E2-F8A0-4924-A2A2-6D1D5CD89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3C3F0-C71A-45BE-B1AC-C2F5D1CE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7A561-D080-4CD3-A5D4-C1B52021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D08BB-2CCE-4394-8BD3-0555F9B7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B681B-C382-48B7-A27D-A8851FEA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26E2-9DBA-4385-BFEA-D9BA46FC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2BBC5-2139-4782-A291-9EAD4A50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62600-12C6-40AF-94DC-D3CC7884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6B202-D729-4D5C-BB1C-0029A9FD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431CC-4431-42BF-9BD4-42A897F7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557EA-5C02-4E11-9E42-00BD425E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038FE-2AB0-4C7E-B60F-5ABB968B1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7130F-32F5-4730-AC66-77F172FE6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08211E-CBFA-43B4-974C-9F67E7BC7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BCAA88-B2F6-4422-820C-943B0DE1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22E51-62C3-4AFB-A561-3C7CA1A2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3F05-361A-4790-B5FD-5563487AB0A0}" type="slidenum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AB87-FCB1-4AEB-99E3-92E998BDBEC1}" type="slidenum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CC8B-65F3-4F30-B1F2-6C92266B9EE8}" type="slidenum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ecf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6ecff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8982-FE2B-4C32-8A0E-EDEF2F9C24E6}" type="slidenum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B302-3112-4B7F-8340-0148B5962C30}" type="slidenum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2509-72B9-4B03-8D58-16B76B84C3C1}" type="slidenum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A1BB-14D3-4491-8E6E-BB307F18247B}" type="slidenum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1454-83B3-4359-A90E-DF8D3AFF0617}" type="slidenum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F209-5494-4624-A7F0-65706863C2AB}" type="slidenum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60.png"/><Relationship Id="rId7" Type="http://schemas.openxmlformats.org/officeDocument/2006/relationships/image" Target="../media/image61.jpeg"/><Relationship Id="rId8" Type="http://schemas.openxmlformats.org/officeDocument/2006/relationships/image" Target="../media/image62.jpeg"/><Relationship Id="rId9" Type="http://schemas.openxmlformats.org/officeDocument/2006/relationships/image" Target="../media/image63.png"/><Relationship Id="rId10" Type="http://schemas.openxmlformats.org/officeDocument/2006/relationships/image" Target="../media/image64.png"/><Relationship Id="rId11" Type="http://schemas.openxmlformats.org/officeDocument/2006/relationships/slideLayout" Target="../slideLayouts/slideLayout6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6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png"/><Relationship Id="rId8" Type="http://schemas.openxmlformats.org/officeDocument/2006/relationships/image" Target="../media/image43.jpeg"/><Relationship Id="rId9" Type="http://schemas.openxmlformats.org/officeDocument/2006/relationships/image" Target="../media/image44.jpeg"/><Relationship Id="rId10" Type="http://schemas.openxmlformats.org/officeDocument/2006/relationships/image" Target="../media/image45.jpeg"/><Relationship Id="rId11" Type="http://schemas.openxmlformats.org/officeDocument/2006/relationships/image" Target="../media/image46.jpeg"/><Relationship Id="rId12" Type="http://schemas.openxmlformats.org/officeDocument/2006/relationships/image" Target="../media/image47.jpeg"/><Relationship Id="rId13" Type="http://schemas.openxmlformats.org/officeDocument/2006/relationships/image" Target="../media/image48.jpeg"/><Relationship Id="rId14" Type="http://schemas.openxmlformats.org/officeDocument/2006/relationships/image" Target="../media/image49.jpeg"/><Relationship Id="rId15" Type="http://schemas.openxmlformats.org/officeDocument/2006/relationships/slideLayout" Target="../slideLayouts/slideLayout61.xml"/><Relationship Id="rId1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4d080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C:\Users\john\Pictures\New Folder\dorothea-lange-great-depression2[1].jpg"/>
          <p:cNvPicPr/>
          <p:nvPr/>
        </p:nvPicPr>
        <p:blipFill>
          <a:blip r:embed="rId1"/>
          <a:stretch/>
        </p:blipFill>
        <p:spPr>
          <a:xfrm>
            <a:off x="5410080" y="304920"/>
            <a:ext cx="3468960" cy="45720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" descr="C:\Users\john\Pictures\New Folder\depression-coffee[1].jpg"/>
          <p:cNvPicPr/>
          <p:nvPr/>
        </p:nvPicPr>
        <p:blipFill>
          <a:blip r:embed="rId2"/>
          <a:stretch/>
        </p:blipFill>
        <p:spPr>
          <a:xfrm>
            <a:off x="609480" y="2895480"/>
            <a:ext cx="4572000" cy="3708360"/>
          </a:xfrm>
          <a:prstGeom prst="rect">
            <a:avLst/>
          </a:prstGeom>
          <a:ln w="0">
            <a:noFill/>
          </a:ln>
        </p:spPr>
      </p:pic>
      <p:sp>
        <p:nvSpPr>
          <p:cNvPr id="408" name="TextBox 5"/>
          <p:cNvSpPr/>
          <p:nvPr/>
        </p:nvSpPr>
        <p:spPr>
          <a:xfrm flipV="1" rot="10800000">
            <a:off x="914400" y="633960"/>
            <a:ext cx="3720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merica is slowly recovering from economic hard times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7"/>
          <p:cNvSpPr/>
          <p:nvPr/>
        </p:nvSpPr>
        <p:spPr>
          <a:xfrm flipH="1" flipV="1" rot="10800000">
            <a:off x="5409000" y="495252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..and many of its people, distracted by their everyday interests, give little thought to events overs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4" descr="C:\Users\john\Pictures\New Folder\citizen-kane[1].jpg"/>
          <p:cNvPicPr/>
          <p:nvPr/>
        </p:nvPicPr>
        <p:blipFill>
          <a:blip r:embed="rId3"/>
          <a:stretch/>
        </p:blipFill>
        <p:spPr>
          <a:xfrm>
            <a:off x="457200" y="380880"/>
            <a:ext cx="2697120" cy="27068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C:\Users\john\Pictures\New Folder\rita.jpg"/>
          <p:cNvPicPr/>
          <p:nvPr/>
        </p:nvPicPr>
        <p:blipFill>
          <a:blip r:embed="rId4"/>
          <a:srcRect l="0" t="13418" r="0" b="0"/>
          <a:stretch/>
        </p:blipFill>
        <p:spPr>
          <a:xfrm>
            <a:off x="5562720" y="457200"/>
            <a:ext cx="3276360" cy="44197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" descr="C:\Users\john\Pictures\New Folder\19479527[1].jpg"/>
          <p:cNvPicPr/>
          <p:nvPr/>
        </p:nvPicPr>
        <p:blipFill>
          <a:blip r:embed="rId5"/>
          <a:stretch/>
        </p:blipFill>
        <p:spPr>
          <a:xfrm>
            <a:off x="2133720" y="2286000"/>
            <a:ext cx="3247920" cy="38577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7" descr="C:\Users\john\Pictures\New Folder\bogart_humphrey-6-maltese_falcon_14295.jpg"/>
          <p:cNvPicPr/>
          <p:nvPr/>
        </p:nvPicPr>
        <p:blipFill>
          <a:blip r:embed="rId6"/>
          <a:stretch/>
        </p:blipFill>
        <p:spPr>
          <a:xfrm>
            <a:off x="304920" y="3749760"/>
            <a:ext cx="238752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7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4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Box 1"/>
          <p:cNvSpPr/>
          <p:nvPr/>
        </p:nvSpPr>
        <p:spPr>
          <a:xfrm>
            <a:off x="228600" y="502920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Weapons have been secretly developed, some with the aid of the Russi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2" descr="C:\Users\john\Pictures\alg_korean_missle.jpg"/>
          <p:cNvPicPr/>
          <p:nvPr/>
        </p:nvPicPr>
        <p:blipFill>
          <a:blip r:embed="rId2"/>
          <a:stretch/>
        </p:blipFill>
        <p:spPr>
          <a:xfrm>
            <a:off x="304920" y="380880"/>
            <a:ext cx="4286160" cy="3191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3" descr="C:\Users\john\Pictures\shahab-3~s600x600.jpg"/>
          <p:cNvPicPr/>
          <p:nvPr/>
        </p:nvPicPr>
        <p:blipFill>
          <a:blip r:embed="rId3"/>
          <a:stretch/>
        </p:blipFill>
        <p:spPr>
          <a:xfrm>
            <a:off x="5029200" y="1905120"/>
            <a:ext cx="391464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3" dur="3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8" dur="3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Box 1"/>
          <p:cNvSpPr/>
          <p:nvPr/>
        </p:nvSpPr>
        <p:spPr>
          <a:xfrm flipH="1">
            <a:off x="304920" y="541008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Impact"/>
              </a:rPr>
              <a:t>Leaders of democracies have tried  responding to the international situation  with sanctions and negoti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2" descr="C:\Users\john\Pictures\New Folder\angela merkel.jpg"/>
          <p:cNvPicPr/>
          <p:nvPr/>
        </p:nvPicPr>
        <p:blipFill>
          <a:blip r:embed="rId1"/>
          <a:stretch/>
        </p:blipFill>
        <p:spPr>
          <a:xfrm>
            <a:off x="2057400" y="1828800"/>
            <a:ext cx="1469880" cy="22050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3" descr="C:\Users\john\Pictures\barack-obama-photo.jpg"/>
          <p:cNvPicPr/>
          <p:nvPr/>
        </p:nvPicPr>
        <p:blipFill>
          <a:blip r:embed="rId2"/>
          <a:stretch/>
        </p:blipFill>
        <p:spPr>
          <a:xfrm>
            <a:off x="3733920" y="3200400"/>
            <a:ext cx="1697040" cy="18543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4" descr="C:\Users\john\Pictures\GordonBrown.jpg"/>
          <p:cNvPicPr/>
          <p:nvPr/>
        </p:nvPicPr>
        <p:blipFill>
          <a:blip r:embed="rId3"/>
          <a:stretch/>
        </p:blipFill>
        <p:spPr>
          <a:xfrm>
            <a:off x="0" y="3276720"/>
            <a:ext cx="1943280" cy="19429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5" descr="C:\Users\john\Pictures\sarkozy-nicolas~s600x600.jpg"/>
          <p:cNvPicPr/>
          <p:nvPr/>
        </p:nvPicPr>
        <p:blipFill>
          <a:blip r:embed="rId4"/>
          <a:stretch/>
        </p:blipFill>
        <p:spPr>
          <a:xfrm>
            <a:off x="5562720" y="2209680"/>
            <a:ext cx="1466640" cy="20005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6" descr="C:\Users\john\Pictures\hatoyama.jpg"/>
          <p:cNvPicPr/>
          <p:nvPr/>
        </p:nvPicPr>
        <p:blipFill>
          <a:blip r:embed="rId5"/>
          <a:stretch/>
        </p:blipFill>
        <p:spPr>
          <a:xfrm>
            <a:off x="7143840" y="3657600"/>
            <a:ext cx="2000160" cy="175428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7" descr="C:\Users\john\Pictures\japan_flag.gif"/>
          <p:cNvPicPr/>
          <p:nvPr/>
        </p:nvPicPr>
        <p:blipFill>
          <a:blip r:embed="rId6"/>
          <a:stretch/>
        </p:blipFill>
        <p:spPr>
          <a:xfrm>
            <a:off x="7238880" y="2209680"/>
            <a:ext cx="1692360" cy="117972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8" descr="C:\Users\john\Pictures\7WZCA774FNDCAG0R12WCAEPPEYLCAT650UACAXOLTOFCAD0D1DBCAD5QVBPCAXED9WGCA01IUWECA0VPZOZCAVU3IXICA2DU9Y3CAZT2VO9CAKLGSJDCAWJO37ACASHK3R2CAFGISJ3CA0Z4KQ7CAA1SHLM.jpg"/>
          <p:cNvPicPr/>
          <p:nvPr/>
        </p:nvPicPr>
        <p:blipFill>
          <a:blip r:embed="rId7"/>
          <a:stretch/>
        </p:blipFill>
        <p:spPr>
          <a:xfrm>
            <a:off x="2133720" y="304920"/>
            <a:ext cx="1428480" cy="109512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9" descr="C:\Users\john\Pictures\usa-flag1.jpg"/>
          <p:cNvPicPr/>
          <p:nvPr/>
        </p:nvPicPr>
        <p:blipFill>
          <a:blip r:embed="rId8"/>
          <a:stretch/>
        </p:blipFill>
        <p:spPr>
          <a:xfrm>
            <a:off x="3733920" y="1752480"/>
            <a:ext cx="1562040" cy="11019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0" descr="C:\Users\john\Pictures\french-flag.png"/>
          <p:cNvPicPr/>
          <p:nvPr/>
        </p:nvPicPr>
        <p:blipFill>
          <a:blip r:embed="rId9"/>
          <a:stretch/>
        </p:blipFill>
        <p:spPr>
          <a:xfrm>
            <a:off x="5638680" y="838080"/>
            <a:ext cx="1447920" cy="96516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1" descr="C:\Users\john\Pictures\uk_flag.gif"/>
          <p:cNvPicPr/>
          <p:nvPr/>
        </p:nvPicPr>
        <p:blipFill>
          <a:blip r:embed="rId10"/>
          <a:stretch/>
        </p:blipFill>
        <p:spPr>
          <a:xfrm>
            <a:off x="0" y="1981080"/>
            <a:ext cx="181440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5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9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4000"/>
                            </p:stCondLst>
                            <p:childTnLst>
                              <p:par>
                                <p:cTn id="4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3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6000"/>
                            </p:stCondLst>
                            <p:childTnLst>
                              <p:par>
                                <p:cTn id="4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8000"/>
                            </p:stCondLst>
                            <p:childTnLst>
                              <p:par>
                                <p:cTn id="4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9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42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3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4000"/>
                            </p:stCondLst>
                            <p:childTnLst>
                              <p:par>
                                <p:cTn id="4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7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5000"/>
                            </p:stCondLst>
                            <p:childTnLst>
                              <p:par>
                                <p:cTn id="42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1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6000"/>
                            </p:stCondLst>
                            <p:childTnLst>
                              <p:par>
                                <p:cTn id="43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5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Box 1"/>
          <p:cNvSpPr/>
          <p:nvPr/>
        </p:nvSpPr>
        <p:spPr>
          <a:xfrm>
            <a:off x="380880" y="838080"/>
            <a:ext cx="76964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2"/>
          <p:cNvSpPr/>
          <p:nvPr/>
        </p:nvSpPr>
        <p:spPr>
          <a:xfrm flipH="1" flipV="1" rot="10800000">
            <a:off x="1295280" y="70056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 Extra Bold"/>
              </a:rPr>
              <a:t>Which year is it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4"/>
          <p:cNvSpPr/>
          <p:nvPr/>
        </p:nvSpPr>
        <p:spPr>
          <a:xfrm>
            <a:off x="990720" y="2666880"/>
            <a:ext cx="19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db1"/>
                </a:solidFill>
                <a:latin typeface="Rockwell Extra Bold"/>
              </a:rPr>
              <a:t>194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5"/>
          <p:cNvSpPr/>
          <p:nvPr/>
        </p:nvSpPr>
        <p:spPr>
          <a:xfrm>
            <a:off x="3581280" y="350532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Rockwell Extra Bold"/>
              </a:rPr>
              <a:t>194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6"/>
          <p:cNvSpPr/>
          <p:nvPr/>
        </p:nvSpPr>
        <p:spPr>
          <a:xfrm>
            <a:off x="6629400" y="411480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Rockwell Extra Bold"/>
              </a:rPr>
              <a:t>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9"/>
          <p:cNvSpPr/>
          <p:nvPr/>
        </p:nvSpPr>
        <p:spPr>
          <a:xfrm>
            <a:off x="533520" y="5562720"/>
            <a:ext cx="807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Matisse ITC"/>
              </a:rPr>
              <a:t>...or do we really want to know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4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7000"/>
                            </p:stCondLst>
                            <p:childTnLst>
                              <p:par>
                                <p:cTn id="45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Box 1"/>
          <p:cNvSpPr/>
          <p:nvPr/>
        </p:nvSpPr>
        <p:spPr>
          <a:xfrm>
            <a:off x="304920" y="45720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reign leaders, hostile to the U.S., have  formed allia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2" descr="C:\Users\john\Pictures\New Folder\225px-Hideki_Tojo.jpg"/>
          <p:cNvPicPr/>
          <p:nvPr/>
        </p:nvPicPr>
        <p:blipFill>
          <a:blip r:embed="rId1"/>
          <a:stretch/>
        </p:blipFill>
        <p:spPr>
          <a:xfrm>
            <a:off x="6400800" y="4038480"/>
            <a:ext cx="2133720" cy="27212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" descr="C:\Users\john\Pictures\New Folder\mussolini.jpg"/>
          <p:cNvPicPr/>
          <p:nvPr/>
        </p:nvPicPr>
        <p:blipFill>
          <a:blip r:embed="rId2"/>
          <a:stretch/>
        </p:blipFill>
        <p:spPr>
          <a:xfrm>
            <a:off x="304920" y="3505320"/>
            <a:ext cx="2209680" cy="31384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" descr="C:\Users\john\Pictures\New Folder\adolf_hitler.jpg"/>
          <p:cNvPicPr/>
          <p:nvPr/>
        </p:nvPicPr>
        <p:blipFill>
          <a:blip r:embed="rId3"/>
          <a:stretch/>
        </p:blipFill>
        <p:spPr>
          <a:xfrm>
            <a:off x="2971800" y="1676520"/>
            <a:ext cx="2489040" cy="3011400"/>
          </a:xfrm>
          <a:prstGeom prst="rect">
            <a:avLst/>
          </a:prstGeom>
          <a:ln w="0">
            <a:noFill/>
          </a:ln>
        </p:spPr>
      </p:pic>
      <p:sp>
        <p:nvSpPr>
          <p:cNvPr id="418" name="TextBox 6"/>
          <p:cNvSpPr/>
          <p:nvPr/>
        </p:nvSpPr>
        <p:spPr>
          <a:xfrm>
            <a:off x="152280" y="51055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They finance and equip forces which have attacked the U.S. and its all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5" descr="C:\Users\john\Pictures\New Folder\2467702550088390784S425x425Q85[1].jpg"/>
          <p:cNvPicPr/>
          <p:nvPr/>
        </p:nvPicPr>
        <p:blipFill>
          <a:blip r:embed="rId4"/>
          <a:stretch/>
        </p:blipFill>
        <p:spPr>
          <a:xfrm>
            <a:off x="228600" y="228600"/>
            <a:ext cx="3562200" cy="28414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6" descr="C:\Users\john\Pictures\New Folder\SinkingShip1[1].jpg"/>
          <p:cNvPicPr/>
          <p:nvPr/>
        </p:nvPicPr>
        <p:blipFill>
          <a:blip r:embed="rId5"/>
          <a:stretch/>
        </p:blipFill>
        <p:spPr>
          <a:xfrm>
            <a:off x="5334120" y="304920"/>
            <a:ext cx="3543120" cy="26478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7" descr="C:\Users\john\Pictures\New Folder\1940_battle_of_britain_03[1].jpg"/>
          <p:cNvPicPr/>
          <p:nvPr/>
        </p:nvPicPr>
        <p:blipFill>
          <a:blip r:embed="rId6"/>
          <a:stretch/>
        </p:blipFill>
        <p:spPr>
          <a:xfrm>
            <a:off x="2971800" y="2971800"/>
            <a:ext cx="300672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2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" dur="2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2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12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4"/>
          <p:cNvSpPr/>
          <p:nvPr/>
        </p:nvSpPr>
        <p:spPr>
          <a:xfrm>
            <a:off x="380880" y="533520"/>
            <a:ext cx="3429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haroni"/>
                <a:ea typeface="Aharoni"/>
              </a:rPr>
              <a:t>One of these leaders openly threatens  large numbers of a particular religious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Users\john\Pictures\New Folder\aushwitz-concentration-camp.gif"/>
          <p:cNvPicPr/>
          <p:nvPr/>
        </p:nvPicPr>
        <p:blipFill>
          <a:blip r:embed="rId1"/>
          <a:stretch/>
        </p:blipFill>
        <p:spPr>
          <a:xfrm>
            <a:off x="1676520" y="3886200"/>
            <a:ext cx="3333600" cy="24764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" descr="C:\Users\john\Pictures\New Folder\71290.jpg"/>
          <p:cNvPicPr/>
          <p:nvPr/>
        </p:nvPicPr>
        <p:blipFill>
          <a:blip r:embed="rId2"/>
          <a:stretch/>
        </p:blipFill>
        <p:spPr>
          <a:xfrm>
            <a:off x="5791320" y="762120"/>
            <a:ext cx="2287440" cy="31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Box 1"/>
          <p:cNvSpPr/>
          <p:nvPr/>
        </p:nvSpPr>
        <p:spPr>
          <a:xfrm>
            <a:off x="533520" y="48006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pperplate Gothic Bold"/>
              </a:rPr>
              <a:t>Weapons have been secretly developed, some with the aid of the Russi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4" descr="C:\Users\john\Pictures\New Folder\Bundesarchiv_Bild_101I-638-4221-06,_Produktion_von_Messerschmitt_Me_109.jpg"/>
          <p:cNvPicPr/>
          <p:nvPr/>
        </p:nvPicPr>
        <p:blipFill>
          <a:blip r:embed="rId2"/>
          <a:stretch/>
        </p:blipFill>
        <p:spPr>
          <a:xfrm>
            <a:off x="1523880" y="457200"/>
            <a:ext cx="5691240" cy="3894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" descr="C:\Users\john\Pictures\New Folder\7tp22.jpg"/>
          <p:cNvPicPr/>
          <p:nvPr/>
        </p:nvPicPr>
        <p:blipFill>
          <a:blip r:embed="rId3"/>
          <a:stretch/>
        </p:blipFill>
        <p:spPr>
          <a:xfrm>
            <a:off x="1143000" y="457200"/>
            <a:ext cx="658332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2" dur="5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3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3" dur="50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Box 1"/>
          <p:cNvSpPr/>
          <p:nvPr/>
        </p:nvSpPr>
        <p:spPr>
          <a:xfrm>
            <a:off x="0" y="449568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 Black"/>
              </a:rPr>
              <a:t>Leaders of democracies have tried responding to the international situation with sanctions and negoti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Users\john\Pictures\New Folder\uk-flag.jpg"/>
          <p:cNvPicPr/>
          <p:nvPr/>
        </p:nvPicPr>
        <p:blipFill>
          <a:blip r:embed="rId2"/>
          <a:stretch/>
        </p:blipFill>
        <p:spPr>
          <a:xfrm>
            <a:off x="304920" y="380880"/>
            <a:ext cx="2377800" cy="39625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3" descr="C:\Users\john\Pictures\New Folder\frenchflag.jpg"/>
          <p:cNvPicPr/>
          <p:nvPr/>
        </p:nvPicPr>
        <p:blipFill>
          <a:blip r:embed="rId3"/>
          <a:stretch/>
        </p:blipFill>
        <p:spPr>
          <a:xfrm>
            <a:off x="2971800" y="380880"/>
            <a:ext cx="2620800" cy="394344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4" descr="C:\Users\john\Pictures\New Folder\american_flag-183332-1.jpg"/>
          <p:cNvPicPr/>
          <p:nvPr/>
        </p:nvPicPr>
        <p:blipFill>
          <a:blip r:embed="rId4"/>
          <a:stretch/>
        </p:blipFill>
        <p:spPr>
          <a:xfrm>
            <a:off x="6019920" y="457200"/>
            <a:ext cx="2857320" cy="38098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5" descr="C:\Users\john\Pictures\New Folder\250px-Arthur-Neville-Chamberlain.jpg"/>
          <p:cNvPicPr/>
          <p:nvPr/>
        </p:nvPicPr>
        <p:blipFill>
          <a:blip r:embed="rId5"/>
          <a:stretch/>
        </p:blipFill>
        <p:spPr>
          <a:xfrm>
            <a:off x="457200" y="1219320"/>
            <a:ext cx="2000160" cy="258444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6" descr="C:\Users\john\Pictures\New Folder\daladier.jpg"/>
          <p:cNvPicPr/>
          <p:nvPr/>
        </p:nvPicPr>
        <p:blipFill>
          <a:blip r:embed="rId6"/>
          <a:stretch/>
        </p:blipFill>
        <p:spPr>
          <a:xfrm>
            <a:off x="3276720" y="1143000"/>
            <a:ext cx="1942920" cy="27399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7" descr="C:\Users\john\Pictures\New Folder\fdr_lg.jpg"/>
          <p:cNvPicPr/>
          <p:nvPr/>
        </p:nvPicPr>
        <p:blipFill>
          <a:blip r:embed="rId7"/>
          <a:stretch/>
        </p:blipFill>
        <p:spPr>
          <a:xfrm>
            <a:off x="6248520" y="1143000"/>
            <a:ext cx="26622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Box 1"/>
          <p:cNvSpPr/>
          <p:nvPr/>
        </p:nvSpPr>
        <p:spPr>
          <a:xfrm>
            <a:off x="380880" y="533520"/>
            <a:ext cx="3353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b39f"/>
                </a:solidFill>
                <a:latin typeface="Arial Black"/>
              </a:rPr>
              <a:t>The year ends badly for the U.S., a familiar old story from long ag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3" descr="C:\Users\john\Pictures\New Folder\6a00d83421515e53ef00e54f3250af8833-640wi.jpg"/>
          <p:cNvPicPr/>
          <p:nvPr/>
        </p:nvPicPr>
        <p:blipFill>
          <a:blip r:embed="rId1"/>
          <a:stretch/>
        </p:blipFill>
        <p:spPr>
          <a:xfrm>
            <a:off x="4191120" y="457200"/>
            <a:ext cx="4559040" cy="3989520"/>
          </a:xfrm>
          <a:prstGeom prst="rect">
            <a:avLst/>
          </a:prstGeom>
          <a:ln w="0">
            <a:noFill/>
          </a:ln>
        </p:spPr>
      </p:pic>
      <p:sp>
        <p:nvSpPr>
          <p:cNvPr id="437" name="TextBox 4"/>
          <p:cNvSpPr/>
          <p:nvPr/>
        </p:nvSpPr>
        <p:spPr>
          <a:xfrm>
            <a:off x="457200" y="39625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b39f"/>
                </a:solidFill>
                <a:latin typeface="Arial Black"/>
              </a:rPr>
              <a:t>… </a:t>
            </a:r>
            <a:r>
              <a:rPr b="0" lang="en-US" sz="2800" spc="-1" strike="noStrike">
                <a:solidFill>
                  <a:srgbClr val="1ab39f"/>
                </a:solidFill>
                <a:latin typeface="Arial Black"/>
              </a:rPr>
              <a:t>or is i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5"/>
          <p:cNvSpPr/>
          <p:nvPr/>
        </p:nvSpPr>
        <p:spPr>
          <a:xfrm>
            <a:off x="914400" y="510552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Impact"/>
              </a:rPr>
              <a:t>Let’s take another look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Box 1"/>
          <p:cNvSpPr/>
          <p:nvPr/>
        </p:nvSpPr>
        <p:spPr>
          <a:xfrm>
            <a:off x="533520" y="685800"/>
            <a:ext cx="3809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Franklin Gothic Book"/>
              </a:rPr>
              <a:t>America is slowly recovering from economic hard tim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C:\Users\john\Pictures\unemployment.jpg"/>
          <p:cNvPicPr/>
          <p:nvPr/>
        </p:nvPicPr>
        <p:blipFill>
          <a:blip r:embed="rId2"/>
          <a:stretch/>
        </p:blipFill>
        <p:spPr>
          <a:xfrm rot="21252000">
            <a:off x="4383000" y="1179360"/>
            <a:ext cx="4557960" cy="10162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3" descr="C:\Users\john\Pictures\unemployment2.jpg"/>
          <p:cNvPicPr/>
          <p:nvPr/>
        </p:nvPicPr>
        <p:blipFill>
          <a:blip r:embed="rId3"/>
          <a:stretch/>
        </p:blipFill>
        <p:spPr>
          <a:xfrm rot="442800">
            <a:off x="1352520" y="3119040"/>
            <a:ext cx="4738680" cy="11890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5" descr="C:\Users\john\Pictures\american-idol-theme-tonight.jpg"/>
          <p:cNvPicPr/>
          <p:nvPr/>
        </p:nvPicPr>
        <p:blipFill>
          <a:blip r:embed="rId4"/>
          <a:stretch/>
        </p:blipFill>
        <p:spPr>
          <a:xfrm>
            <a:off x="0" y="3124080"/>
            <a:ext cx="4978440" cy="37339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6" descr="C:\Users\john\Pictures\2009-baseball-opening-day-brett-mye.jpg"/>
          <p:cNvPicPr/>
          <p:nvPr/>
        </p:nvPicPr>
        <p:blipFill>
          <a:blip r:embed="rId5"/>
          <a:stretch/>
        </p:blipFill>
        <p:spPr>
          <a:xfrm>
            <a:off x="5105520" y="380880"/>
            <a:ext cx="3565440" cy="302436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C:\Users\john\Pictures\kanye_west.jpg"/>
          <p:cNvPicPr/>
          <p:nvPr/>
        </p:nvPicPr>
        <p:blipFill>
          <a:blip r:embed="rId6"/>
          <a:stretch/>
        </p:blipFill>
        <p:spPr>
          <a:xfrm>
            <a:off x="3581280" y="2286000"/>
            <a:ext cx="2651400" cy="2651040"/>
          </a:xfrm>
          <a:prstGeom prst="rect">
            <a:avLst/>
          </a:prstGeom>
          <a:ln w="0">
            <a:noFill/>
          </a:ln>
        </p:spPr>
      </p:pic>
      <p:sp>
        <p:nvSpPr>
          <p:cNvPr id="445" name="TextBox 12"/>
          <p:cNvSpPr/>
          <p:nvPr/>
        </p:nvSpPr>
        <p:spPr>
          <a:xfrm>
            <a:off x="5181480" y="5029200"/>
            <a:ext cx="3657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… </a:t>
            </a: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and many of its people, distracted by their everyday interests, give little thought to events overs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5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0"/>
                            </p:stCondLst>
                            <p:childTnLst>
                              <p:par>
                                <p:cTn id="2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5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000"/>
                            </p:stCondLst>
                            <p:childTnLst>
                              <p:par>
                                <p:cTn id="2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6000"/>
                            </p:stCondLst>
                            <p:childTnLst>
                              <p:par>
                                <p:cTn id="2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Box 1"/>
          <p:cNvSpPr/>
          <p:nvPr/>
        </p:nvSpPr>
        <p:spPr>
          <a:xfrm>
            <a:off x="380880" y="51814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 Black"/>
              </a:rPr>
              <a:t>Foreign leaders, hostile to the U.S., have formed  allia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2" descr="C:\Users\john\Pictures\wchavez11.jpg"/>
          <p:cNvPicPr/>
          <p:nvPr/>
        </p:nvPicPr>
        <p:blipFill>
          <a:blip r:embed="rId2"/>
          <a:stretch/>
        </p:blipFill>
        <p:spPr>
          <a:xfrm>
            <a:off x="380880" y="2362320"/>
            <a:ext cx="1793880" cy="19746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3" descr="C:\Users\john\Pictures\venezuela-flag.gif"/>
          <p:cNvPicPr/>
          <p:nvPr/>
        </p:nvPicPr>
        <p:blipFill>
          <a:blip r:embed="rId3"/>
          <a:stretch/>
        </p:blipFill>
        <p:spPr>
          <a:xfrm>
            <a:off x="380880" y="609480"/>
            <a:ext cx="1543320" cy="102888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4" descr="C:\Users\john\Pictures\al-assad-cp-200-240.jpg"/>
          <p:cNvPicPr/>
          <p:nvPr/>
        </p:nvPicPr>
        <p:blipFill>
          <a:blip r:embed="rId4"/>
          <a:stretch/>
        </p:blipFill>
        <p:spPr>
          <a:xfrm>
            <a:off x="7162920" y="2362320"/>
            <a:ext cx="1600200" cy="19206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5" descr="C:\Users\john\Pictures\syrian-flag.jpg"/>
          <p:cNvPicPr/>
          <p:nvPr/>
        </p:nvPicPr>
        <p:blipFill>
          <a:blip r:embed="rId5"/>
          <a:stretch/>
        </p:blipFill>
        <p:spPr>
          <a:xfrm>
            <a:off x="7086600" y="609480"/>
            <a:ext cx="1638360" cy="12286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6" descr="C:\Users\john\Pictures\ahmadinejad.jpg"/>
          <p:cNvPicPr/>
          <p:nvPr/>
        </p:nvPicPr>
        <p:blipFill>
          <a:blip r:embed="rId6"/>
          <a:stretch/>
        </p:blipFill>
        <p:spPr>
          <a:xfrm>
            <a:off x="2666880" y="2362320"/>
            <a:ext cx="1805040" cy="19508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7" descr="C:\Users\john\Pictures\iran_flag.gif"/>
          <p:cNvPicPr/>
          <p:nvPr/>
        </p:nvPicPr>
        <p:blipFill>
          <a:blip r:embed="rId7"/>
          <a:stretch/>
        </p:blipFill>
        <p:spPr>
          <a:xfrm>
            <a:off x="2590920" y="533520"/>
            <a:ext cx="1885680" cy="10778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8" descr="C:\Users\john\Pictures\kim jong il.jpg"/>
          <p:cNvPicPr/>
          <p:nvPr/>
        </p:nvPicPr>
        <p:blipFill>
          <a:blip r:embed="rId8"/>
          <a:stretch/>
        </p:blipFill>
        <p:spPr>
          <a:xfrm>
            <a:off x="5029200" y="2438280"/>
            <a:ext cx="1511280" cy="19036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9" descr="C:\Users\john\Pictures\NorthKoreanFlag.jpg"/>
          <p:cNvPicPr/>
          <p:nvPr/>
        </p:nvPicPr>
        <p:blipFill>
          <a:blip r:embed="rId9"/>
          <a:stretch/>
        </p:blipFill>
        <p:spPr>
          <a:xfrm>
            <a:off x="4952880" y="457200"/>
            <a:ext cx="1656000" cy="1163520"/>
          </a:xfrm>
          <a:prstGeom prst="rect">
            <a:avLst/>
          </a:prstGeom>
          <a:ln w="0">
            <a:noFill/>
          </a:ln>
        </p:spPr>
      </p:pic>
      <p:sp>
        <p:nvSpPr>
          <p:cNvPr id="455" name="TextBox 12"/>
          <p:cNvSpPr/>
          <p:nvPr/>
        </p:nvSpPr>
        <p:spPr>
          <a:xfrm>
            <a:off x="380880" y="586728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 Black"/>
              </a:rPr>
              <a:t>They finance and equip forces which have attacked the U.S. and its all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11" descr="C:\Users\john\Pictures\large_TalibanAfghanistan_Violence_Meye.jpg"/>
          <p:cNvPicPr/>
          <p:nvPr/>
        </p:nvPicPr>
        <p:blipFill>
          <a:blip r:embed="rId10"/>
          <a:stretch/>
        </p:blipFill>
        <p:spPr>
          <a:xfrm>
            <a:off x="228600" y="304920"/>
            <a:ext cx="2363760" cy="16491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2" descr="C:\Users\john\Pictures\al Qaeda Organisation in the Islamic Maghreb.jpg"/>
          <p:cNvPicPr/>
          <p:nvPr/>
        </p:nvPicPr>
        <p:blipFill>
          <a:blip r:embed="rId11"/>
          <a:stretch/>
        </p:blipFill>
        <p:spPr>
          <a:xfrm>
            <a:off x="5791320" y="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3" descr="C:\Users\john\Pictures\MarineBarracksA.jpg"/>
          <p:cNvPicPr/>
          <p:nvPr/>
        </p:nvPicPr>
        <p:blipFill>
          <a:blip r:embed="rId12"/>
          <a:stretch/>
        </p:blipFill>
        <p:spPr>
          <a:xfrm>
            <a:off x="228600" y="2743200"/>
            <a:ext cx="2641680" cy="29052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4" descr="C:\Users\john\Pictures\10.jpg"/>
          <p:cNvPicPr/>
          <p:nvPr/>
        </p:nvPicPr>
        <p:blipFill>
          <a:blip r:embed="rId13"/>
          <a:stretch/>
        </p:blipFill>
        <p:spPr>
          <a:xfrm>
            <a:off x="6477120" y="3429000"/>
            <a:ext cx="2235240" cy="16765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5" descr="C:\Users\john\Pictures\beirut-airp-cp-10386373.jpg"/>
          <p:cNvPicPr/>
          <p:nvPr/>
        </p:nvPicPr>
        <p:blipFill>
          <a:blip r:embed="rId14"/>
          <a:stretch/>
        </p:blipFill>
        <p:spPr>
          <a:xfrm>
            <a:off x="3124080" y="1143000"/>
            <a:ext cx="248616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500"/>
                            </p:stCondLst>
                            <p:childTnLst>
                              <p:par>
                                <p:cTn id="29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3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6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9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2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8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Box 1"/>
          <p:cNvSpPr/>
          <p:nvPr/>
        </p:nvSpPr>
        <p:spPr>
          <a:xfrm>
            <a:off x="304920" y="380880"/>
            <a:ext cx="3352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f71"/>
                </a:solidFill>
                <a:latin typeface="Franklin Gothic Book"/>
              </a:rPr>
              <a:t>One of these leaders openly threatens large numbers of a particular religious 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2" descr="C:\Users\john\Pictures\President_Addresses_General_Assembly.jpg"/>
          <p:cNvPicPr/>
          <p:nvPr/>
        </p:nvPicPr>
        <p:blipFill>
          <a:blip r:embed="rId1"/>
          <a:stretch/>
        </p:blipFill>
        <p:spPr>
          <a:xfrm>
            <a:off x="3809880" y="609480"/>
            <a:ext cx="5143680" cy="341640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3" descr="C:\Users\john\Pictures\LLLLLLLLLLLLLLLLLLLLLLLLLLLLLLLLLLLLLLLL.jpg"/>
          <p:cNvPicPr/>
          <p:nvPr/>
        </p:nvPicPr>
        <p:blipFill>
          <a:blip r:embed="rId2"/>
          <a:stretch/>
        </p:blipFill>
        <p:spPr>
          <a:xfrm>
            <a:off x="838080" y="4724280"/>
            <a:ext cx="5646960" cy="14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23:08:25Z</dcterms:created>
  <dc:creator>john</dc:creator>
  <dc:description/>
  <dc:language>en-US</dc:language>
  <cp:lastModifiedBy>john</cp:lastModifiedBy>
  <dcterms:modified xsi:type="dcterms:W3CDTF">2009-11-28T23:36:05Z</dcterms:modified>
  <cp:revision>55</cp:revision>
  <dc:subject/>
  <dc:title>Slide 1</dc:title>
</cp:coreProperties>
</file>